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25AD5-87BC-4314-8064-C5A84A6B4C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11F2B-32CF-475F-A8F0-3AF44A036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1 Daryl Cagle -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86A1C-1823-4C21-BAE0-8EB2FD793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1 Arend van Dam -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CA6E0-22B7-443A-B4CC-835DE87A0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479-C64A-466D-BE30-E419F913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405-DA02-4015-AFF5-46349484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796-EB0A-4FAA-ACCD-5A397164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C3B-A61B-41E5-86F4-5CD9AF63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890-1325-465E-AED2-EE4413B6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313-4F1E-4FF2-A049-CFF6808C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8FD-8743-4C66-B612-CC7A6286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021-5811-4FAD-A052-52167479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8B8-4D61-449D-ADA6-6C7D5226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B74-47CC-461C-B2B5-6BAA1B29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F2D-8B86-47F1-8CD1-DA5EDBE3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976-6CAF-46B1-BA29-8E7F5C51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13857-DA05-4799-9B76-1BB3617F28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A89DA-0655-4AA6-AB0C-72FA3A888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1643-ObamaConsidersE.tif"/>
          <p:cNvPicPr/>
          <p:nvPr/>
        </p:nvPicPr>
        <p:blipFill>
          <a:blip r:embed="rId1"/>
          <a:stretch/>
        </p:blipFill>
        <p:spPr>
          <a:xfrm>
            <a:off x="291960" y="237960"/>
            <a:ext cx="849492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Mubarak(ChaosThreat).jpg"/>
          <p:cNvPicPr/>
          <p:nvPr/>
        </p:nvPicPr>
        <p:blipFill>
          <a:blip r:embed="rId1"/>
          <a:srcRect l="-10593" t="0" r="-10593" b="0"/>
          <a:stretch/>
        </p:blipFill>
        <p:spPr>
          <a:xfrm>
            <a:off x="-853920" y="512640"/>
            <a:ext cx="1086480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20:10:06Z</dcterms:created>
  <dc:creator>sbechtel</dc:creator>
  <dc:description/>
  <dc:language>en-US</dc:language>
  <cp:lastModifiedBy>Jillian McGuire</cp:lastModifiedBy>
  <dcterms:modified xsi:type="dcterms:W3CDTF">2011-02-03T19:57:55Z</dcterms:modified>
  <cp:revision>2</cp:revision>
  <dc:subject/>
  <dc:title>Slide 1</dc:title>
</cp:coreProperties>
</file>